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9.xml.rels" ContentType="application/vnd.openxmlformats-package.relationships+xml"/>
  <Override PartName="/ppt/notesSlides/notesSlide8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wmf" ContentType="image/x-wmf"/>
  <Override PartName="/ppt/media/image36.wmf" ContentType="image/x-wmf"/>
  <Override PartName="/ppt/media/image12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AC9F-F293-4414-AC7B-68BDAA5B0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53FD-05ED-4640-B629-7C39F497DCB8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757-C821-4B59-937A-F6813931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329-ADD3-43E4-9EDD-0F644A76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CCF-C64E-46C8-AFBA-F416288F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E05-E729-4302-AAF4-D7BF55E7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EB7C-3173-4D0D-B893-1B719A39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5AA5-0EC9-4216-AE48-E4C13F08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FAF5-2CDD-407E-8847-55473063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F4FE-D40C-4B48-8EBD-9BAEA2FB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B34-5C3D-4F9E-9C2C-3C60118C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5C5A-AFB9-47E8-97F0-D031CC98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5912-FF21-424E-9C16-729B55EF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684-4965-48A1-A1C9-01672450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E119-0C55-46EF-AA3F-097622EF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32C5-2DB1-43D5-8BB3-67E3E36D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F67A-A618-40B2-9B8F-166EA68F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AD32-DF46-48DC-A9AA-0EC69593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8D9A-5FF6-47F0-B56F-415FACD5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96E-5AA6-4358-B0DB-FA64B1D5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DD6-FD35-4FF4-8138-EE4E984A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4DF-B5BA-4165-9AF5-1F940A75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D7E-EC8B-42B7-A4C4-BAA9F1BA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FA8-0EAE-4321-BADA-CE2A9AE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D50-EE13-4095-94A2-36CFCB9E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AF3-6167-4E02-A3D8-B8FB1637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81D6-0B7D-451E-93D7-37DC4A16090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E973-0CD5-4A2B-A269-1CF3E23A69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61AC-BEED-4FA1-A560-1030A87D111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A482-972A-4F85-9210-525ED01335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icrobewiki.kenyon.edu/index.php/File:Ypf.jpe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www.zdravstvena.info/vsznj/wp-content/uploads/2009/01/kolera.jpg&amp;imgrefurl=http://www.zdravstvena.info/vsznj/virusne-okuzbe-prebavil-bakterijske-okuzbe-prebavil-paraziti-v-prebavilih-okuzbe-secil-in-spolnih-organov/&amp;usg=__y-K2g6pfcyGJLChLGaOU9SYMrKM=&amp;h=300&amp;w=300&amp;sz=22&amp;hl=sr&amp;start=94&amp;um=1&amp;itbs=1&amp;tbnid=Ai22T8wFzhm3fM:&amp;tbnh=116&amp;tbnw=116&amp;prev=/images%3Fq%3Dkolera%26ndsp%3D20%26hl%3Dsr%26sa%3DN%26start%3D80%26um%3D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www.ecosalon.com/wp-content/uploads/2009/04/cholera.jpg&amp;imgrefurl=http://www.ecosalon.com/climate-change-increases-cholera-in-africa/&amp;usg=__dCMJ0azBTmFeJnLWCV_WB9N6-Ro=&amp;h=341&amp;w=455&amp;sz=61&amp;hl=sr&amp;start=489&amp;um=1&amp;itbs=1&amp;tbnid=BLK1hlR1BcbhhM:&amp;tbnh=96&amp;tbnw=128&amp;prev=/images%3Fq%3Dkolera%26ndsp%3D20%26hl%3Dsr%26sa%3DN%26start%3D480%26um%3D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www.nathnac.org/travel/factsheets/images/cholera.gif&amp;imgrefurl=http://www.nathnac.org/travel/factsheets/cholera.htm&amp;usg=__jN2gu7d90L_LcKw8w8cAwyiNnx0=&amp;h=364&amp;w=546&amp;sz=28&amp;hl=sr&amp;start=40&amp;um=1&amp;itbs=1&amp;tbnid=PejcYOYvQ4tFLM:&amp;tbnh=89&amp;tbnw=133&amp;prev=/images%3Fq%3Dkolera%26ndsp%3D20%26hl%3Dsr%26sa%3DN%26start%3D20%26um%3D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rs/imgres?imgurl=http://www.sblvaccines.se/page/images/Cholera_map_2008.gif&amp;imgrefurl=http://www.sblvaccines.se/news/item/kolerasituationen_2004-2008/5&amp;usg=__oCUdJZTRSfmnb1ZseIx9ue0bBss=&amp;h=657&amp;w=1024&amp;sz=72&amp;hl=sr&amp;start=104&amp;um=1&amp;itbs=1&amp;tbnid=EexmzSkanfPCyM:&amp;tbnh=96&amp;tbnw=150&amp;prev=/images%3Fq%3Dkolera%26ndsp%3D20%26hl%3Dsr%26sa%3DN%26start%3D100%26um%3D1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static3.travelandleisure.com/images/amexpub/0008/9681/200909-w-dangerous-crab.jpg&amp;imgrefurl=http://www.travelandleisure.com/articles/worlds-most-dangerous-foods/3&amp;usg=__D3Jno-7Xgwy2hwJKqr0SH6hKEfE=&amp;h=320&amp;w=380&amp;sz=59&amp;hl=sr&amp;start=603&amp;um=1&amp;itbs=1&amp;tbnid=TOXhklUIjOp1lM:&amp;tbnh=104&amp;tbnw=123&amp;prev=/images%3Fq%3Dkolera%26ndsp%3D20%26hl%3Dsr%26sa%3DN%26start%3D600%26um%3D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i.telegraph.co.uk/telegraph/multimedia/archive/01123/Cholera_1123739c.jpg&amp;imgrefurl=http://www.telegraph.co.uk/news/worldnews/africaandindianocean/zimbabwe/3536824/Zimbabwes-cholera-epidemic-hits-10000.html&amp;usg=__-LFFvyPE4aVhQuIwKbTHCrCsnLc=&amp;h=288&amp;w=460&amp;sz=42&amp;hl=sr&amp;start=76&amp;um=1&amp;itbs=1&amp;tbnid=Ny7NL5J64_KKiM:&amp;tbnh=80&amp;tbnw=128&amp;prev=/images%3Fq%3Dkolera%26ndsp%3D20%26hl%3Dsr%26sa%3DN%26start%3D60%26um%3D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www.umich.edu/news/Releases/2008/Aug08/cholera.jpg&amp;imgrefurl=http://www.ns.umich.edu/htdocs/releases/story.php%3Fid%3D6674&amp;usg=__QIeWspCeVb6KLdxFOPafhgFFoMk=&amp;h=767&amp;w=575&amp;sz=511&amp;hl=sr&amp;start=298&amp;um=1&amp;itbs=1&amp;tbnid=V7gpgyLH6JG1bM:&amp;tbnh=142&amp;tbnw=106&amp;prev=/images%3Fq%3Dkolera%26ndsp%3D20%26hl%3Dsr%26sa%3DN%26start%3D280%26um%3D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www1.qiagen.com/geneglobe/Pathways/tiny/Cholera%2520Infection.jpg&amp;imgrefurl=http://www1.qiagen.com/geneglobe/PathwayView.aspx%3FpathwayID%3D108&amp;usg=___Pxsnj_Wzt7s3TvDizEDHB9h9w0=&amp;h=450&amp;w=300&amp;sz=65&amp;hl=sr&amp;start=547&amp;um=1&amp;itbs=1&amp;tbnid=lxgrB1KTgSZuqM:&amp;tbnh=127&amp;tbnw=85&amp;prev=/images%3Fq%3Dkolera%26ndsp%3D20%26hl%3Dsr%26sa%3DN%26start%3D540%26um%3D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upload.wikimedia.org/wikipedia/commons/thumb/0/0c/Cholera_Toxin.png/300px-Cholera_Toxin.png&amp;imgrefurl=http://en.wikipedia.org/wiki/Cholera_toxin&amp;usg=__PHpVrgXNAyBeEGm5dBFTUCjiIkU=&amp;h=334&amp;w=300&amp;sz=120&amp;hl=sr&amp;start=38&amp;um=1&amp;itbs=1&amp;tbnid=vd0i_VqxVySTtM:&amp;tbnh=119&amp;tbnw=107&amp;prev=/images%3Fq%3Dkolera%26ndsp%3D20%26hl%3Dsr%26sa%3DN%26start%3D20%26um%3D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rehydrate.org/dd/img1/dd121.jpg&amp;imgrefurl=http://rehydrate.org/dd/dd12.htm&amp;usg=__qjSXuB2hkBVXsMgn4WLB94-4G-k=&amp;h=527&amp;w=361&amp;sz=18&amp;hl=sr&amp;start=39&amp;um=1&amp;itbs=1&amp;tbnid=zm2fLr3iBl7r_M:&amp;tbnh=132&amp;tbnw=90&amp;prev=/images%3Fq%3Dkolera%26ndsp%3D20%26hl%3Dsr%26sa%3DN%26start%3D20%26um%3D1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kirstyne.files.wordpress.com/2007/09/cholera1.jpg&amp;imgrefurl=http://kirstyne.wordpress.com/2007/09/29/if-youve-never-heard-of-cholera-be-thankful-that-you-have-clean-water/&amp;usg=__fRMr9yZT8C66sXrWWuXJEvHS4dA=&amp;h=463&amp;w=700&amp;sz=66&amp;hl=sr&amp;start=98&amp;um=1&amp;itbs=1&amp;tbnid=D40PVGr1cioZBM:&amp;tbnh=93&amp;tbnw=140&amp;prev=/images%3Fq%3Dkolera%26ndsp%3D20%26hl%3Dsr%26sa%3DN%26start%3D80%26um%3D1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fieldnotes.unicefusa.org/UNI6294_Comp%255B1%255D.jpg&amp;imgrefurl=http://fieldnotes.unicefusa.org/2009/02/newsnet_zimbabwes_cholera_cris.html&amp;usg=__tWI2uZ8TFxq4Nc_B5oZdGXaU_3Y=&amp;h=450&amp;w=300&amp;sz=55&amp;hl=sr&amp;start=432&amp;um=1&amp;itbs=1&amp;tbnid=wM98p9u0Ph9YwM:&amp;tbnh=127&amp;tbnw=85&amp;prev=/images%3Fq%3Dkolera%26ndsp%3D20%26hl%3Dsr%26sa%3DN%26start%3D420%26um%3D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www.javno.com/slike/slike_3/r1/g2008/m12/y189453803446590.jpg&amp;imgrefurl=http://www.javno.com/hr-svijet/zimbabve--britancima-je-kolera-isprika-za-invaziju_211994&amp;usg=__cMr7LCqGN1y2E7o_DShO1mt5100=&amp;h=300&amp;w=400&amp;sz=28&amp;hl=sr&amp;start=80&amp;um=1&amp;itbs=1&amp;tbnid=pN39JjXMDnRjQM:&amp;tbnh=93&amp;tbnw=124&amp;prev=/images%3Fq%3Dkolera%26ndsp%3D20%26hl%3Dsr%26sa%3DN%26start%3D60%26um%3D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media.nowpublic.net/images//e8/0/e806a9171f70da6be182d185d178dc8f.jpg&amp;imgrefurl=http://www.nowpublic.com/world/cholera-beds&amp;usg=__LU6s6YQH6H_Y8_9GGFEkyTXWzwM=&amp;h=476&amp;w=635&amp;sz=120&amp;hl=sr&amp;start=768&amp;um=1&amp;itbs=1&amp;tbnid=Boz-o6dhWFsGFM:&amp;tbnh=103&amp;tbnw=137&amp;prev=/images%3Fq%3Dkolera%26ndsp%3D20%26hl%3Dsr%26sa%3DN%26start%3D760%26um%3D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521360" y="-1293840"/>
            <a:ext cx="83646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330033"/>
                </a:solidFill>
                <a:latin typeface="Times New Roman"/>
              </a:rPr>
              <a:t>TROPSKE   BOLESTI</a:t>
            </a:r>
            <a:br>
              <a:rPr sz="2500"/>
            </a:br>
            <a:r>
              <a:rPr b="0" lang="sr-Latn-CS" sz="2500" spc="-1" strike="noStrike">
                <a:solidFill>
                  <a:srgbClr val="330033"/>
                </a:solidFill>
                <a:latin typeface="Times New Roman"/>
              </a:rPr>
              <a:t> Bakteriske  infekcije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7617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ОПСКЕ БОЛЕС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актеријске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276720" y="52578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. Др Предраг Чановић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 нелечених болесника: септикемија, ДИК, хеморагисјки шок,смрт (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скулитис са тромбозама-гангрена екстермитета “црна смр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Acral necrosis of the nose, the lips, and the fin..."/>
          <p:cNvPicPr/>
          <p:nvPr/>
        </p:nvPicPr>
        <p:blipFill>
          <a:blip r:embed="rId1"/>
          <a:stretch/>
        </p:blipFill>
        <p:spPr>
          <a:xfrm>
            <a:off x="1523880" y="304920"/>
            <a:ext cx="624852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Acral necrosis of the toes and residual ecchymose..."/>
          <p:cNvPicPr/>
          <p:nvPr/>
        </p:nvPicPr>
        <p:blipFill>
          <a:blip r:embed="rId1"/>
          <a:stretch/>
        </p:blipFill>
        <p:spPr>
          <a:xfrm>
            <a:off x="1295280" y="380880"/>
            <a:ext cx="67057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ептична к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убонску кугу прати бактериј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птично стање са настанком: АРИ,АБИ, ДИК,см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лућна к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имарна пнеумонија: инха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екундарна пнеумонија: бактериј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нфективни синдром,кашаљ,А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еђи клинички  обли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енинг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аринг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астроинтестина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лација узр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олошке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птомицин 30мг/кг на 12х, 10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нтамиц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вен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зинфекција и дера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П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ронич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ективна болест са афекцијом периферних нерава, коже и слузок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 леп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милиона је оболело од леп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ндемски се одржава у :Азији, Африци Ј. Амер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 инфекције: капљични (носни секр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азно место: носна слузница,крвоток, поткожно ткиво и не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 У Г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рна смрт” је веома заразно акутно инфективно обољ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Пестис, грам-негативан коко бац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сте у аеробним услов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кубација: 5-7год...40год.(споро размножавање бацила и велика колич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тоген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дсуство ћелијског имунитета 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икобактер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интезивно размножавање бацила у кожи,периф. нервима(Шванове ћелије) и у РЕС-у :настаје Лепроматозна леп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фикасан ћелијски одговор: раст бацила је супримиран,настају грануломи у дерму и епидерму,компресија нерава-моторни и сензорни поремећаји :Туберкулоидна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Лепроматозна леп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етрични кожни нодули,инфилтрати де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етрична,билатерална периферна полинеуропатија са дисталном анестезијом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ands with Z-thumbs, clawing, contractures, and s..."/>
          <p:cNvPicPr/>
          <p:nvPr/>
        </p:nvPicPr>
        <p:blipFill>
          <a:blip r:embed="rId1"/>
          <a:stretch/>
        </p:blipFill>
        <p:spPr>
          <a:xfrm>
            <a:off x="1905120" y="1447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hronic insensate patch due to leprosy infection...."/>
          <p:cNvPicPr/>
          <p:nvPr/>
        </p:nvPicPr>
        <p:blipFill>
          <a:blip r:embed="rId1"/>
          <a:stretch/>
        </p:blipFill>
        <p:spPr>
          <a:xfrm>
            <a:off x="2057400" y="167652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уберкулоидна леп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жне лезије: хипопигментисани плакови са хиперемичним руб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кализација: лице, екстремитети, глутеуси (хладне регије те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иметрична периферна неуропат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Multiple flat hypopigmented lesions on shoulder a..."/>
          <p:cNvPicPr/>
          <p:nvPr/>
        </p:nvPicPr>
        <p:blipFill>
          <a:blip r:embed="rId1"/>
          <a:stretch/>
        </p:blipFill>
        <p:spPr>
          <a:xfrm>
            <a:off x="2438280" y="19810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м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тарне улцерације,глауком,катаракта, слепило,разни деформитети (“канджаста рука, седласт нос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хроничне кожне лезије и периферна неуропат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псија промена у к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на у трајању до 2 године код лепроматозне фор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беркулоидна се може  спонтано излеч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microbewiki.kenyon.edu/images/thumb/e/e3/Ypf.jpeg/180px-Ypf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371600"/>
            <a:ext cx="51051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ЛЕР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утно,контагиозно,ендемо-епидемијско обољење са повраћањем и великим бројем столица,дехидратацијом и хиповолемијским шо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брион колере је грам-негативан бацил,осетљив на физичка и хемијска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ва биотипа:Ел Тор и клас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и серотипа: Инаба,Ога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и Хикој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kole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13372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hole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447920"/>
            <a:ext cx="55623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chole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98108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holera_map_20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205740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андемијско-ендемско шир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еко-орална инф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ут: храна, вода и конта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звор: човек (болесник, клицоно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200909-w-dangerous-cra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752480"/>
            <a:ext cx="4724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holera_1123739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981080"/>
            <a:ext cx="41907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chole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05740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тоген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окализација: дуоденум и горњи јејун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гзотоксин има две субјединице А и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бјединица Б: везивање вибриона за рецепторе на површини слуз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бјединица А: активација аденил циклазе уз појачано стварање ц-АМФ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ест  из далеке прош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ришта куге: Азија, Африка,Ј.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ервоар узрочника:оболели пацови, мишеви,  зечеви,веверице,мачк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ношење међу животињама: буве, прождирање угинулих животи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овека: контакт (буве) и инха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Cholera%2520Infec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60020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300px-Cholera_Tox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057400"/>
            <a:ext cx="44960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хибиција апсорпције: На и Хл и појачана секреција бикарбо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пител је интак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би се до 1 л/1 х,хиповолемија, метаболичка ацидоза,бубрежна инсуф., уремиј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 промене су реверзиби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инкубација 2-3 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ерична дијареј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: малаксалост, мука, гађење,дијареје,губитак 2-5%тт.Траје 2-5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ерични гастроентерити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враћањ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олице “пиринчана вода”.Губитак течности до 8%тт.”во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колерика”,губи се тургор к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лгидни стадију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-50 столица за 24х.Губитак течности до 10%тт.”фациес х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ратика”,”прсти праље”, ТТ око32 Ц, шок, см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dd1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828800"/>
            <a:ext cx="3124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choler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981080"/>
            <a:ext cx="44956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намнеза и објективан прегл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золација узр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тезивна и.в.надокнада течности уз корекцију ацидо-базног стат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ка” раствор : 4гр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+4гр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aH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3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1гр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K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орално:1 л воде+Да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р. +20грГлук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нтибиотици: тетрациклини 5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UNI6294_Comp%255B1%255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19320"/>
            <a:ext cx="4038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Oriental rat flea (&lt;em&gt;Xenopsylla cheopis&lt;/em&gt;), ...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y189453803446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4495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e806a9171f70da6be182d185d178dc8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676520"/>
            <a:ext cx="4647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article-1093192-02C69E2A000005DC-607_468x345"/>
          <p:cNvPicPr/>
          <p:nvPr/>
        </p:nvPicPr>
        <p:blipFill>
          <a:blip r:embed="rId1"/>
          <a:stretch/>
        </p:blipFill>
        <p:spPr>
          <a:xfrm>
            <a:off x="1981080" y="1676520"/>
            <a:ext cx="4876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love_in_the_time_of_cholera"/>
          <p:cNvPicPr/>
          <p:nvPr/>
        </p:nvPicPr>
        <p:blipFill>
          <a:blip r:embed="rId1"/>
          <a:stretch/>
        </p:blipFill>
        <p:spPr>
          <a:xfrm>
            <a:off x="3124080" y="15238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НИНГОКОКНИ МЕНИНГ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шко ,контагиозно инфективно обољење које се најчешће манифестује као менингитис или се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менингитидис-менингок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 негативан диплокок,најчешће интрацелуларно смештен (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е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сахарид капсуле: 13 група (А,БЦ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Neiss_01"/>
          <p:cNvPicPr/>
          <p:nvPr/>
        </p:nvPicPr>
        <p:blipFill>
          <a:blip r:embed="rId1"/>
          <a:stretch/>
        </p:blipFill>
        <p:spPr>
          <a:xfrm>
            <a:off x="1828800" y="137160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Neiss_04"/>
          <p:cNvPicPr/>
          <p:nvPr/>
        </p:nvPicPr>
        <p:blipFill>
          <a:blip r:embed="rId1"/>
          <a:stretch/>
        </p:blipFill>
        <p:spPr>
          <a:xfrm>
            <a:off x="2286000" y="20574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Neiss_05"/>
          <p:cNvPicPr/>
          <p:nvPr/>
        </p:nvPicPr>
        <p:blipFill>
          <a:blip r:embed="rId1"/>
          <a:stretch/>
        </p:blipFill>
        <p:spPr>
          <a:xfrm>
            <a:off x="2286000" y="1981080"/>
            <a:ext cx="44956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тне структуре за настанак инфекц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псуларни полисахар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мб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поолигосахарид (ендотокс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ини спољашње мемб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Rock squirrel in extremis coughing blood-streaked..."/>
          <p:cNvPicPr/>
          <p:nvPr/>
        </p:nvPicPr>
        <p:blipFill>
          <a:blip r:embed="rId1"/>
          <a:stretch/>
        </p:blipFill>
        <p:spPr>
          <a:xfrm>
            <a:off x="1447920" y="99072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ингокок насељава назофаринкс збо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не вла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гљендиокс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ћег броја рецептора на ћел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цоноштво може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чно,повремено и прола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настанак епидемије важно 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цоноштво у популациј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ко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ингокок групе А и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пла клима,влажност и струјање ва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ањена синтеза ИгМ и И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па оболевања:1-2 на 100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јчешће деца од 6м-3год.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20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тоген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фарингеална колон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ктеријемија (ИгМ,ИгГ,фагоци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ножавање бактерија и солобађање ендотокс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дотоксин-везујуће беланчев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онизација назофарин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цептори на епителним ћел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руленција бактерија и И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лазак бактерија кроз епи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јански коњ” –фагоцитне ваку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ктериј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ар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кунда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суство опсонизације и фагоцитозе, ИгМ,И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атоенцефална бариј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иоидни плексу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ч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мо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цептори на ендотелним ћел. капилара и хориоидног плекс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ицање ендотелних ћел. капилара дејством бактерија и инфламаторних компон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варање проинфламаториних цито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бађање медијатора запаљења:ТНФ-алфа,интерлеукин 1,6,8,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емећај коагулације крви :унутрашњи и спољашњи п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анак ДИК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ламација субарадноидалног прос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ак хуморалног имунитета и комплем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ножавање бак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лобађање ендотокс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чки облици боле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ингококна се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ингити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1998 world distribution of plague. Image courtesy..."/>
          <p:cNvPicPr/>
          <p:nvPr/>
        </p:nvPicPr>
        <p:blipFill>
          <a:blip r:embed="rId1"/>
          <a:stretch/>
        </p:blipFill>
        <p:spPr>
          <a:xfrm>
            <a:off x="1447920" y="2133720"/>
            <a:ext cx="5790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тив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ингеални симптоми:главобоља, фотофобија, повраћање, малаксал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ингеални знаци: укочен врат, горњи и доњи Бружински,Керниг-ов и Вујић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ингеални положа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meningitis"/>
          <p:cNvPicPr/>
          <p:nvPr/>
        </p:nvPicPr>
        <p:blipFill>
          <a:blip r:embed="rId1"/>
          <a:stretch/>
        </p:blipFill>
        <p:spPr>
          <a:xfrm>
            <a:off x="2438280" y="1752480"/>
            <a:ext cx="4191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вулзије код 30% у де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техијална ос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рпес симп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Neiss_03"/>
          <p:cNvPicPr/>
          <p:nvPr/>
        </p:nvPicPr>
        <p:blipFill>
          <a:blip r:embed="rId1"/>
          <a:stretch/>
        </p:blipFill>
        <p:spPr>
          <a:xfrm>
            <a:off x="2362320" y="16002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?plivahealth%5bsection%5d=IMAGEmanager&amp;plivahealth%5baction%5d=getIMAGE&amp;plivahealth%5bid%5d=18029&amp;plivahealth%5bsize%5d=106&amp;"/>
          <p:cNvPicPr/>
          <p:nvPr/>
        </p:nvPicPr>
        <p:blipFill>
          <a:blip r:embed="rId1"/>
          <a:stretch/>
        </p:blipFill>
        <p:spPr>
          <a:xfrm>
            <a:off x="1828800" y="1600200"/>
            <a:ext cx="57150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мбална пун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тологија лик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хемијски преглед лик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тура лик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пјутеризована томограф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иотска:цефтриаксон,ванкомицин, рифампицин.Менингокок-пеницилин, 14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инфламаторна :дексазон 0.6-0.8мг/кг /6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иедемска :манитол,фуросе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ат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ФИ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нична системска инфекција изазвана спирохетом Трепонема палид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sifilis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пидемиолог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еви преношења: сексуални контакт, асексуални лични контакт, ин утеро и трансфузиј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мосексуалне, бисексуалне и хетеросексуалне  осо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КЛИНИЧКА С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Лимфаденитис “бубонска куг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нкубација: 2-8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нфективни синдром: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емп.,малаксалост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ок рег.лимф.чвора (бубон):препона, аксила, врат (1-10ц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жа је едематозна и црв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чке манифест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имарни сифи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нкубација је до 3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нкр-безболна папула на гениталним органима и аналном делу (траје 4-6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латерална ингвинална аденопатија, траје неколико месе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кундарни сифи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па по кожи: макуле, папуле, пустуле на длановима и табанима или прелазе у кон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мата лата у интертригинозним дел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мфаденопат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0292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562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3337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шти симпто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шобоља,грозница,губитак тел. тежине, малаксалост,анорексија,главобољ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ингиз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тентни сифи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и-до годину дана од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и-дуже од годину дана од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цијерни сифилис,Неуросифи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ингеални сифи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инговаскуларни сифи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есивна пар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ес дорза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диоваскуларни сифи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у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олошки тестови: нетрепонемни и трепонем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wollen lymph glands, termed buboes, are a hallma...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нзатин пеницилин Г  2,4м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трациклин, доксацик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4:01:50Z</dcterms:created>
  <dc:creator>Zoran Todorovic</dc:creator>
  <dc:description/>
  <dc:language>en-US</dc:language>
  <cp:lastModifiedBy>Predrag Canovic</cp:lastModifiedBy>
  <dcterms:modified xsi:type="dcterms:W3CDTF">2023-02-03T01:38:30Z</dcterms:modified>
  <cp:revision>89</cp:revision>
  <dc:subject/>
  <dc:title>TROPSKE   BOLESTI  Bakteriske  infekcije</dc:title>
</cp:coreProperties>
</file>